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5C66-FED9-49C9-960D-CE9A73E7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19DF-649D-41D9-A96E-36FB2BC9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E632-0831-4C3A-A18C-93E4EF62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CA2B-FEE6-40C5-86C3-766D978A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2904-9882-4A14-AB18-35A2BDAC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2592-7FA3-4A90-8A40-192FA583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49AD-3076-4E5F-957C-D948039E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1A93-34FC-47D0-AF2C-08A6B64A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AC86-F503-4CFD-A3BB-ED0E3FA4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8801-BCF7-49DA-889B-0A4CD009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6335-D435-4D29-A825-492B90F8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145F-4BA3-4BB3-87BF-2CCA432D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2665-DF94-4782-B447-F33DED8AA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32 Pán Ježiš je môj klen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je môj kleno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 neba,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zmysel má môj živo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v ňom mojej cesty cieľ. : 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 večnej slávy prišie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hriechu zbaviť, ví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pozdrav Otca sveti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on svätý Boží Syn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rany hriechu hoj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tíši srdca ž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die verne, pri mne stoj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tak, ako vždycky stál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hlieb a Voda živ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svetla spásy Zdr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ilou mojou bý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keď zúri nepokoj.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4:09:47Z</dcterms:modified>
  <cp:revision>21</cp:revision>
  <dc:subject/>
  <dc:title>Je veľký náš Pán, on slávy je Kráľ Nech do všetkých strán  spev vrúcnych znie chvál.</dc:title>
</cp:coreProperties>
</file>